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14.pct" ContentType="image/x-pict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AF20-B229-4D71-9FFE-7146E13CE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 key bacteria  Eu bacteria  Pro tist a  Fun 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tee  Ani ma 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650-E810-4524-82FD-6D78E808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96B-3AAB-4178-8FB3-7B10F86F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44C-A969-4A57-9DB8-57445737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3EB-B553-4C1C-BDBC-95636AF6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F11-4084-4DB9-BB6F-698DA8D7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320-376D-4AB0-946F-24FE1A4D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341-44C5-4DE6-A5FE-9E9D65B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A56-30CD-42B8-ADBC-C00DC73C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5FB-7CF5-4067-AE9A-A4A5E7F4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768-CDAD-4113-802E-AA05CAE4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57E-BB89-4BA2-BE28-09132B0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CEF-434F-4C6C-8F7E-9537C74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E5D5-EFAB-4D6F-B156-1F67A88C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ingd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designed by Anita L. Archer, PHD for presentation in Middle School demonstration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502-10ED-44E6-A214-512E9E46E0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tro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 =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ph = nutrition/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s on other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tro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=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ph = nutrition/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own f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619-8F00-429D-8B0B-0D19FE6413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 = an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3320" y="1981080"/>
            <a:ext cx="533736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83600" y="61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B64-3D5D-49F4-A213-D1C168847F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5F8-0A94-499C-9A33-2AD8E98D7B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eter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 autotro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6B4-E007-4047-A240-7CF1372D52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4920" y="1981080"/>
            <a:ext cx="6192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4A4-AB74-4010-ADB9-B80D7556EB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= 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403-CF75-4120-9451-F743E832DC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5560" y="1981080"/>
            <a:ext cx="3692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2FB-91F9-48C1-928D-54B383E766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2371680"/>
            <a:ext cx="7772400" cy="33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557-F91C-4A99-A70B-603C48E339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ell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 &amp; autotrop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elpful/some harm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6A1-DD30-449B-816B-34458616B7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a (proti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D2A-701E-4491-B76F-6F3310F8D3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gs means to divid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groups or types so tha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imilar characteristics are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D47-C3E4-4B74-A71D-485B65FF5A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4A3-F18B-4E80-A3D7-71F94D5F26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green Alga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82880" y="1981080"/>
            <a:ext cx="51782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100-64F9-437B-9BF3-DD103FC87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awe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01720" y="1981080"/>
            <a:ext cx="5740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080-5E60-4CBF-A743-23FCE3CE12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t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unicell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 &amp; aut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s and ends”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acteria, animal, plant, or fung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A04-F433-4763-AD6E-6F04D250D1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3120" y="1981080"/>
            <a:ext cx="3316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9B3-FB53-4BB4-9C11-BD3263CBA4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41560" y="1981080"/>
            <a:ext cx="5059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101-0779-4FD7-A943-5F6F1BCD9D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90760" y="1981080"/>
            <a:ext cx="61610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E87-2A89-401B-977C-78D154D21C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od - decaying plant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h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FDA-1C4E-4B31-BE07-03C23D7CD8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e (pla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96960" y="1981080"/>
            <a:ext cx="41500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CBF-C8C1-4CEC-9640-F04FD39033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e (pla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678-3C95-49B5-B590-2D11F8119F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2E1-EBCA-4B2B-983B-3DAEEEADF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tro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,000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005-4F99-42E8-875E-5908735424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  (anim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8DF-5CA4-424B-8E39-BF37499777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  (anim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9960" y="1981080"/>
            <a:ext cx="54640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8B6-46C3-417B-8B7E-E1F29D9E54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  (anim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43160" y="1981080"/>
            <a:ext cx="28576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4B4-FB2B-465F-A312-0619A5CE37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  (anim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1440" y="1981080"/>
            <a:ext cx="62611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EEE-6995-46C9-8930-266F013B26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illion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C2A-3E5F-4EDE-84A3-16796575A2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3B3-1D60-4D5F-B92C-66D7A03F03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7920" y="19810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187-C328-4ACF-9EF2-F24C911FE2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BDC-EB4A-46B8-9A7D-9C48BA7FA4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 for the Biolog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howjsa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5B8-49BB-4C65-8204-A698072A02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King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sta (prot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e (pla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ia (anim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D18-6D55-4356-90CA-255810EA97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 =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=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29F-A606-44B4-A304-04159776D9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 tru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=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tru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7AC-8558-407B-8715-9B61F66305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0:26:26Z</dcterms:created>
  <dc:creator>Archer Anita</dc:creator>
  <dc:description/>
  <dc:language>en-US</dc:language>
  <cp:lastModifiedBy>Archer Anita</cp:lastModifiedBy>
  <dcterms:modified xsi:type="dcterms:W3CDTF">2012-02-16T03:48:36Z</dcterms:modified>
  <cp:revision>4</cp:revision>
  <dc:subject/>
  <dc:title>6 kingdoms</dc:title>
</cp:coreProperties>
</file>